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jpeg" ContentType="image/jpeg"/>
  <Override PartName="/ppt/media/image25.jpeg" ContentType="image/jpeg"/>
  <Override PartName="/ppt/media/image24.jpeg" ContentType="image/jpe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F7F-5B32-4774-9467-9F8ADCE0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5D4-3D3D-46CD-BDAE-B46DC53D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C3B-A632-4922-BFF1-AF098B2B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01C-6902-4DD8-B6AE-9B2C5619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C613-1126-4241-BDE3-5C6459D6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E54B-F208-4A8D-A3F9-C45C220A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9173-067A-4E0C-B794-973922C7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D805-F84D-4266-8E7B-CA881465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9AF9-DB45-4244-A1A9-05B87B75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CECF-5BF6-4A62-AF19-910F13BC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7A52-AD85-4C44-A460-4F1D41F5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5F9-4600-4395-8918-6C85136C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5D9D-6E6B-4BA1-8E80-93279B34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1C79-C496-4D92-BD5E-CDB22C2E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3C74-0342-44FD-A3E2-E31A256A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63FC-B899-4540-B02F-15219902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30B4-7194-40B4-84BB-07737247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DFF7A-8797-42B0-BCE3-FDDCD3E1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79B4F-C7EF-4C0A-B023-D381E0F5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8358A-F971-4ABD-9629-90B051AD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39C9D-8141-45ED-807E-9416BD3D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CD40E-A32D-4BF6-9024-BCCD0344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3F0-AAA0-4DF5-96EF-67144330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9D3FE-960B-4CA6-83EA-F1686F14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BCA57-6247-417A-BEF3-71805B60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026C-CDB4-4A01-AEB0-72F9AD68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B35B3-570C-4314-82C8-B75BCA59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4F506-34E6-4AC3-8E97-1A6DC036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217A0-759B-4382-BFA1-7B5EC005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1B849-3004-4863-8F95-C5B78BC1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88C-52B6-4E1C-A769-FE84C08D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309-7774-42F3-9977-23CFBED3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08E-50CD-4DAD-83D9-FE28FE01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811-BBCC-4A19-8D98-99EF3877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F78-907F-489E-8080-7BB959E6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A33-4327-452D-972F-896A08A2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3730-D7BD-49BF-AEDA-AB322F1C3F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CA20-F9EC-482A-8A18-AD24E4097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0CB0-68C0-4855-A07B-283ED1B7E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1484280"/>
            <a:ext cx="914400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ХИРУРШКА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АНАТОМИЈА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ГЛАВЕ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И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В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ПРОПЕДЕВТИКА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У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МАКСИЛОФАЦИЈАЛНОЈ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ХИРУРГ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ОБОЉЕЊА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МАКСИЛАРНОГ</a:t>
            </a:r>
            <a:r>
              <a:rPr b="1" lang="sr-Latn-CS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Arial Black"/>
              </a:rPr>
              <a:t>СИН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33320" y="133200"/>
            <a:ext cx="654120" cy="10670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8"/>
          <p:cNvSpPr/>
          <p:nvPr/>
        </p:nvSpPr>
        <p:spPr>
          <a:xfrm>
            <a:off x="981000" y="424800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</a:t>
            </a: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TextBox 9" descr=""/>
          <p:cNvPicPr/>
          <p:nvPr/>
        </p:nvPicPr>
        <p:blipFill>
          <a:blip r:embed="rId3"/>
          <a:stretch/>
        </p:blipFill>
        <p:spPr>
          <a:xfrm>
            <a:off x="1573200" y="285840"/>
            <a:ext cx="544356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РЕТРОМАКСИЛАРН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ОС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5035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ромаксилар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tubera maxillae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теригоид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ускулату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пр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tuber maxillae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атер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л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ramusa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mandibulae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temporalis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диј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ва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fissurae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pterigomaksilaris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ossom pterigopalatinom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аниј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ратемпорал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мпорал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в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теригоид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нск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лексу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preview_html_34f7b593"/>
          <p:cNvPicPr/>
          <p:nvPr/>
        </p:nvPicPr>
        <p:blipFill>
          <a:blip r:embed="rId2"/>
          <a:stretch/>
        </p:blipFill>
        <p:spPr>
          <a:xfrm>
            <a:off x="5254560" y="1928880"/>
            <a:ext cx="3889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4000" spc="-1" strike="noStrike">
                <a:solidFill>
                  <a:srgbClr val="ffffff"/>
                </a:solidFill>
                <a:latin typeface="Arial"/>
              </a:rPr>
              <a:t>FOSSA PTERYGOPALAT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550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Fossa pterygopalatina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линаст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пр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пчаном ко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лиц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атер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штр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ossa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infratemporalis</a:t>
            </a:r>
            <a:r>
              <a:rPr b="0" i="1" lang="sr-C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л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вла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canalis palatinus maj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issurae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orbitalis inferior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ganglion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sphenopalatinum,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axillaris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уш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n. maxillari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n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pterygopalatini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n.infraorbita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11_v2_in_pterygopalatine_fossa_copy"/>
          <p:cNvPicPr/>
          <p:nvPr/>
        </p:nvPicPr>
        <p:blipFill>
          <a:blip r:embed="rId2"/>
          <a:stretch/>
        </p:blipFill>
        <p:spPr>
          <a:xfrm>
            <a:off x="5429160" y="1571760"/>
            <a:ext cx="3533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ТЕРИГОМАНДИБУЛАР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ОС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142640"/>
            <a:ext cx="8607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Spatium pterygomandibulare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сцеп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pterygoideus medialis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нутраш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ramus mandibulae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уд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њ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ло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pterygoideus medialis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пу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аниј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pterygoideus lateralis</a:t>
            </a:r>
            <a:r>
              <a:rPr b="0" i="1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потпун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твор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диј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афарингеал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тид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ж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дуж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дијал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рши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usculus temporali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ossa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infratemporali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fossa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temporali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теригомандибулар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држ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a. v. et nervus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alveolaris inferior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nervus lingualis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нск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в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дов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д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plexus pterygoideu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ossa pterygopalatina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-265680360" y="2147506560"/>
            <a:ext cx="2404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tium pterygomandib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625640" y="2147506560"/>
            <a:ext cx="3819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rostor u vidu rascepa, koji se nalazi izmedj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274825080" y="2147506560"/>
            <a:ext cx="375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-266059800" y="2147506560"/>
            <a:ext cx="1863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erygoideus media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-247465800" y="2147506560"/>
            <a:ext cx="1581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unutrašnje stra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26512560" y="2147506560"/>
            <a:ext cx="163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us mandibula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30103280" y="2147506560"/>
            <a:ext cx="2472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je kaudalno donjim pol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-266059440" y="2147506560"/>
            <a:ext cx="2105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pterygoideus media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-59088240" y="2147506560"/>
            <a:ext cx="2539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puno, a prema kranijalno 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102697560" y="2147506560"/>
            <a:ext cx="2062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pterygoideus latera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233534520" y="2147506560"/>
            <a:ext cx="990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otpu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-266065920" y="2147506560"/>
            <a:ext cx="7063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tvoren. Prema medijalno je u kontaktu sa parafaringealnim prostorom, a prema nazad 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-266062320" y="2147506560"/>
            <a:ext cx="3684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otidnom ložom. Uzduž medijalne površ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49205880" y="2147506560"/>
            <a:ext cx="1756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ulus tempora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158489640" y="2147506560"/>
            <a:ext cx="1623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je u kontaktu 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261044640" y="2147506560"/>
            <a:ext cx="573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-266058720" y="-2147461920"/>
            <a:ext cx="134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tempora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-108664920" y="-2147461920"/>
            <a:ext cx="23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-102214800" y="-2147461920"/>
            <a:ext cx="1034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li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-41791680" y="-2147461920"/>
            <a:ext cx="2651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erigomandibularna loža sadrž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124925760" y="-2147461920"/>
            <a:ext cx="1121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, ve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193201560" y="-2147461920"/>
            <a:ext cx="23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-220179600" y="-2147461920"/>
            <a:ext cx="1480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us alveolar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-266057280" y="-2147461920"/>
            <a:ext cx="802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ior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8"/>
          <p:cNvSpPr/>
          <p:nvPr/>
        </p:nvSpPr>
        <p:spPr>
          <a:xfrm>
            <a:off x="-144631800" y="-2147461920"/>
            <a:ext cx="55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o 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9"/>
          <p:cNvSpPr/>
          <p:nvPr/>
        </p:nvSpPr>
        <p:spPr>
          <a:xfrm>
            <a:off x="-114827760" y="-2147461920"/>
            <a:ext cx="144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us linguali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-242682840" y="-2147461920"/>
            <a:ext cx="3221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ski krvni sudovi tog prostora idu k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185145840" y="-2147461920"/>
            <a:ext cx="1716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xus pterygoide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2"/>
          <p:cNvSpPr/>
          <p:nvPr/>
        </p:nvSpPr>
        <p:spPr>
          <a:xfrm>
            <a:off x="-266055840" y="-2147461920"/>
            <a:ext cx="23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-180677160" y="-2147461920"/>
            <a:ext cx="1857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sa pterygopalati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ДЕО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ЈЕ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tongue_new_small"/>
          <p:cNvPicPr/>
          <p:nvPr/>
        </p:nvPicPr>
        <p:blipFill>
          <a:blip r:embed="rId2"/>
          <a:stretch/>
        </p:blipFill>
        <p:spPr>
          <a:xfrm>
            <a:off x="5867280" y="2133720"/>
            <a:ext cx="3124440" cy="30574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7640" y="1164960"/>
            <a:ext cx="624996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27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ишић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г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Њего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атомс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рад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гова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његов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ногоструки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ункција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ускулату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преч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уга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на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рши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Sulcus terminalis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ранич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ин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р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п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ње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papillae circumvalatae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foramen caecum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х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уно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(Nuhn)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вод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на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лив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ч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.geniohyoideus-a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genioglossus-a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зив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ђупросто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уд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ои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раниј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нутраш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ускулату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36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ИРУРШК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НАТОМИЈ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Р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ПРЕДЊИ ПРЕДЕО В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БОЧНИ ПРЕДЕО В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СУБЛИНГВАЛНИ ПРОС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СУБМАНДИБУЛАРНИ ПРОС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СУБМНЕТАЛНА ЛО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ПАРАФАРИНГЕАЛНИ ПРОС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9688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ХИРУРШКА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АНАТОМИЈА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ат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илиндрича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ек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8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у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л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меште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рга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имф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дов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живц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ишић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фас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келет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в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броја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елемен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ам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лазе</a:t>
            </a:r>
            <a:r>
              <a:rPr b="0" lang="es-E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ат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дућ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лав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рудн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ш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брнут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в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натомск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елемен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меште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в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25198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дњ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зв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уромускуларн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25198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"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сцералн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"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ги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в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веде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мишље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ава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лаз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њ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тран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ичме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т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74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ЕДЕЛ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000" y="1432080"/>
            <a:ext cx="539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пографс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атом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е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зир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његов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пољ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нфигурац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ктиц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ло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а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дн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централн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(regio colli anterior)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в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редишњ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терноклеидомастоид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в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атерал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ч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(regio colli laterali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ран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г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с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очавај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овек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ерноклеидомастоид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ишић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с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се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ентралн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атера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ANd9GcTMQ0Le_tg6r5CcWEtzQL-S6Unyi2ar_GnJDBblNO1AlDB5YQOm"/>
          <p:cNvPicPr/>
          <p:nvPr/>
        </p:nvPicPr>
        <p:blipFill>
          <a:blip r:embed="rId2"/>
          <a:stretch/>
        </p:blipFill>
        <p:spPr>
          <a:xfrm>
            <a:off x="5429160" y="1571760"/>
            <a:ext cx="351792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ФАСЦИЈЕ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 предњем пределу врата, све елементе непотпуно "раздвајају" три вратне фас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вршна, средња и дубока фасција врата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lamina superficialis fasciae cervicalis)</a:t>
            </a:r>
            <a:r>
              <a:rPr b="0" i="1" lang="sr-C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m10"/>
          <p:cNvPicPr/>
          <p:nvPr/>
        </p:nvPicPr>
        <p:blipFill>
          <a:blip r:embed="rId2"/>
          <a:stretch/>
        </p:blipFill>
        <p:spPr>
          <a:xfrm>
            <a:off x="5435640" y="1600200"/>
            <a:ext cx="342252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ФАСЦИЈЕ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400" y="1413000"/>
            <a:ext cx="80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површн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lamina superficiali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р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вој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м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кожј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кож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шић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platysma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ред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с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тегну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в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мохиоид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шић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бо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ткичм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с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р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бок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ши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 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пр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ичме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азилар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иљач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ће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ракалног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шљ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зир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ложа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ње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а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уд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ставља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јед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сед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ган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сција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 "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аб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чк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"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ж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единач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езазлене 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шир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дијастину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зва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ивот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пас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мплика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4932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оји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дужец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ч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бо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с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јед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тал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д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ђуфасцијал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ажни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редишњ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spatium viscerale colli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кљ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шни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дре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дња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титас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иму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рофаринге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д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дрела)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бок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с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дужета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septum longitudinale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гу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рект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дијастину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натомск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пре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-22596840" y="-529346880"/>
            <a:ext cx="734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voji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-22598280" y="-351801000"/>
            <a:ext cx="2140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nim produžecima (bo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-2922840" y="-351801000"/>
            <a:ext cx="244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2436120" y="-351801000"/>
            <a:ext cx="5159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im i prednjim) duboka fascija vrata, zajedno sa ostale dve, gra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-22610880" y="-174255120"/>
            <a:ext cx="7165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edjufascijalne prostore vrata. Važniji od njih su: središnji prostor - spatium viscerale coll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-22606200" y="3291120"/>
            <a:ext cx="6870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u kome se nalaze grkljan, vratni deo dušnika, ždrela i jednjaka kao i štitna žlezda i vil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30979800" y="3291120"/>
            <a:ext cx="244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1475520" y="3291120"/>
            <a:ext cx="26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-22595760" y="180837000"/>
            <a:ext cx="1133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timus). Ve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-9874800" y="180837000"/>
            <a:ext cx="638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́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e delom pomenut, retrofarinksni prostor (izmedju zadnje strane ždrela, dubok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-22608000" y="358382880"/>
            <a:ext cx="5852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ascije vrata i njenih produžetaka (septum longitudinale)), kojim je mogu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22449600" y="358382880"/>
            <a:ext cx="1619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́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 direktno širenj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-22602600" y="535906080"/>
            <a:ext cx="4786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nfekcije iz vrata u medijastinum, bez anatomskih prepreka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9" descr="img_10"/>
          <p:cNvPicPr/>
          <p:nvPr/>
        </p:nvPicPr>
        <p:blipFill>
          <a:blip r:embed="rId2"/>
          <a:stretch/>
        </p:blipFill>
        <p:spPr>
          <a:xfrm>
            <a:off x="4933800" y="1407960"/>
            <a:ext cx="4071960" cy="47484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ОСТОР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7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ИРУРШК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НАТОМИЈ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ЛА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РБ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FOSSA TEMPOR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УКАЛ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FOSSA C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ОТИДН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О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ТРОМАКСИЛАР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</a:t>
            </a:r>
            <a:r>
              <a:rPr b="0" lang="sr-RS" sz="2400" spc="-1" strike="noStrike">
                <a:solidFill>
                  <a:srgbClr val="025198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FOSSA PTERYGOPALA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ТЕРИГОМАНДИБУЛАР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Е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ОСТОР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В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67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пољ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исцерал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фасцијалног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еђупросто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руг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аротид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(vagina carotica)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ој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елик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дов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(a. carotis communis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 v. jugularis interna)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хваљују</a:t>
            </a:r>
            <a:r>
              <a:rPr b="0" lang="sr-RS" sz="2400" spc="-1" strike="noStrike">
                <a:solidFill>
                  <a:srgbClr val="025198"/>
                </a:solidFill>
                <a:latin typeface="Arial"/>
              </a:rPr>
              <a:t>ћ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крет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лав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вија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езавис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елик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22"/>
          <p:cNvPicPr/>
          <p:nvPr/>
        </p:nvPicPr>
        <p:blipFill>
          <a:blip r:embed="rId2"/>
          <a:stretch/>
        </p:blipFill>
        <p:spPr>
          <a:xfrm>
            <a:off x="5076720" y="1557360"/>
            <a:ext cx="37432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УБЛИНГВАЛН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ОС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22320" y="1292400"/>
            <a:ext cx="5608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304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лингв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304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ч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нутрашњ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рши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на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лохиоид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ин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304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диј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usculus genioglossu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geniohyoideu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304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в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удалн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usculus mylohyoideu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304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штр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мандибулар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304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лингвал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р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лингвал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вод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на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говарајућ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в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дов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nervus linguali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mb4_132"/>
          <p:cNvPicPr/>
          <p:nvPr/>
        </p:nvPicPr>
        <p:blipFill>
          <a:blip r:embed="rId2"/>
          <a:stretch/>
        </p:blipFill>
        <p:spPr>
          <a:xfrm>
            <a:off x="5581800" y="1284120"/>
            <a:ext cx="3483000" cy="48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УБМАНДИБУЛАР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ОС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52563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андибулар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гова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дијал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атерал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25198"/>
                </a:solidFill>
                <a:latin typeface="Arial"/>
              </a:rPr>
              <a:t>spatium paramandibulare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п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бух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. digastricus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дњ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бух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.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digastricus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ранијалн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. mylohyoideus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удалн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рш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ас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sr-Latn-RS" sz="1800" spc="-1" strike="noStrike">
                <a:solidFill>
                  <a:srgbClr val="025198"/>
                </a:solidFill>
                <a:latin typeface="Arial"/>
              </a:rPr>
              <a:t>platysma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ткож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андибулар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љувач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жлез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имф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жлез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0208"/>
          <p:cNvPicPr/>
          <p:nvPr/>
        </p:nvPicPr>
        <p:blipFill>
          <a:blip r:embed="rId2"/>
          <a:stretch/>
        </p:blipFill>
        <p:spPr>
          <a:xfrm>
            <a:off x="5500800" y="1785960"/>
            <a:ext cx="36576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УБМНЕТАЛНА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ЛОЖ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14392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8120" indent="-16812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ментал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а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оид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ч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бухо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digastricu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потпу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вој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мандибулар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пар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нов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верген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ч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шић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мент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гл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апе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азо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оидн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в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hyoideu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товрем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лингвално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л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стављ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сциј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латизм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кож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ж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вр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п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с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а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на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оид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пречав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љ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ментал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држ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ментал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имф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с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стреси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зив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о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АРАФАРИНГЕЛН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ОС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296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афарингеал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угуљаст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за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се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ор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аз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оба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носн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foramen ovale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foramen</a:t>
            </a:r>
            <a:r>
              <a:rPr b="0" lang="sr-Latn-R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spinosum</a:t>
            </a:r>
            <a:r>
              <a:rPr b="0" lang="sr-Latn-RS" sz="2400" spc="-1" strike="noStrike">
                <a:solidFill>
                  <a:srgbClr val="025198"/>
                </a:solidFill>
                <a:latin typeface="Arial"/>
              </a:rPr>
              <a:t>-a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едијал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оч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и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фаринк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атералн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musculus pterygoideus medialis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афарингеал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тилофарингеалном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понеуроз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деље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ел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Cambria"/>
              <a:buChar char="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њ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m. pterygoideus medialis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очног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и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фаринк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Cambria"/>
              <a:buChar char="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дњ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адрж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елик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дов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ерв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ипада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очним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елим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-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ПЕДЕВТИК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ОФАЦИЈАЛНОЈ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ИРУРГ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09640" y="1699920"/>
            <a:ext cx="7921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НАМНЕЗ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ДАЦ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БИЈЕ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ЦИЈЕНТ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АТИО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ИЧН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НАМНЕЗ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ВИК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ЛЕРГИЈ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ДАЦ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ЕМЕН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НК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ОЛЕСТ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РАЈАЊ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ПРОВЕДЕНОМ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ЕЧЕ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РОДИЧН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НАМНЕЗ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ДАЦ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ОЛЕСТИМ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ЛИЖОЈ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РОД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1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ПЕДЕВТИК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ОФАЦИЈАЛНОЈ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ИРУРГ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5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КЛИНИЧКИ ПРЕГЛ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ИНСПЕ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ПАЛП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25198"/>
                </a:solidFill>
                <a:latin typeface="Arial"/>
              </a:rPr>
              <a:t>ДОДАТНА ДИЈАГНОСТИЧКА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800" spc="-1" strike="noStrike">
                <a:solidFill>
                  <a:srgbClr val="025198"/>
                </a:solidFill>
                <a:latin typeface="Arial"/>
              </a:rPr>
              <a:t>EHO</a:t>
            </a:r>
            <a:r>
              <a:rPr b="0" i="1" lang="sr-CS" sz="2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sr-Latn-RS" sz="2800" spc="-1" strike="noStrike">
                <a:solidFill>
                  <a:srgbClr val="025198"/>
                </a:solidFill>
                <a:latin typeface="Arial"/>
              </a:rPr>
              <a:t>C</a:t>
            </a:r>
            <a:r>
              <a:rPr b="0" i="1" lang="sr-CS" sz="2800" spc="-1" strike="noStrike">
                <a:solidFill>
                  <a:srgbClr val="025198"/>
                </a:solidFill>
                <a:latin typeface="Arial"/>
              </a:rPr>
              <a:t>Т, М</a:t>
            </a:r>
            <a:r>
              <a:rPr b="0" i="1" lang="sr-Latn-RS" sz="2800" spc="-1" strike="noStrike">
                <a:solidFill>
                  <a:srgbClr val="025198"/>
                </a:solidFill>
                <a:latin typeface="Arial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БОЉЕЊ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аназал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упљи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стим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иц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оба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аспоређе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к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ос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упљи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Њихо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нутрашњост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бложе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лузокож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ос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ам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натомск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ећ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функционал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ели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в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“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муницира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”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осни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одницим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себ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тво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јвећ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sinus maxillaris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орњој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илиц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maxilla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).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руг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sinus frontalis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25198"/>
                </a:solidFill>
                <a:latin typeface="Arial"/>
              </a:rPr>
              <a:t>чеоној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os frontale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R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sinus sphenoidalis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25198"/>
                </a:solidFill>
                <a:latin typeface="Arial"/>
              </a:rPr>
              <a:t>клинастој кос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os sphenoidale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sinus ethmoidalis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25198"/>
                </a:solidFill>
                <a:latin typeface="Arial"/>
              </a:rPr>
              <a:t>ситастој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i="1" lang="sr-Latn-RS" sz="2400" spc="-1" strike="noStrike">
                <a:solidFill>
                  <a:srgbClr val="025198"/>
                </a:solidFill>
                <a:latin typeface="Arial"/>
              </a:rPr>
              <a:t>os ethmoidale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Arial"/>
              </a:rPr>
              <a:t>SINUS MAXILL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9323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ч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упљ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стални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рази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развиј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доста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ве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ез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ај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во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формитет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иц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л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о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ирами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аз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рену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осн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упљ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х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игоматич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буч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лис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но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уб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нутраш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ос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упљи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ч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упљ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раорбитал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живц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д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теригопалатинск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ратемпорал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мам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Sinusi2"/>
          <p:cNvPicPr/>
          <p:nvPr/>
        </p:nvPicPr>
        <p:blipFill>
          <a:blip r:embed="rId2"/>
          <a:stretch/>
        </p:blipFill>
        <p:spPr>
          <a:xfrm>
            <a:off x="4930920" y="2276640"/>
            <a:ext cx="4098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7952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РАЂ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ЛУЗОКОЖ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128592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92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н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о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зв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пљаст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сеудостратификова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ип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ва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знача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в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ћел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пит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азал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мбра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ихов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спор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једна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с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спев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ој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лов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рши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пите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д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зличит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синина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рш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леда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лу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ож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ш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оје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важни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ункцион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лемен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н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ехарас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ћел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вар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пљас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ћел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ој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пља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но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кре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пљ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и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крет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ич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дњ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дн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з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моћ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кре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пор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лач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чет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ложа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о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д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ђ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ол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ећ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пљ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д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ушћ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елатиносз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ел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анспорту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ст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„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леп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“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г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ст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аши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ерге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актер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рус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љив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руг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пор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кре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пљ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акт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ел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з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кре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диру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л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иску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авц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мах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пљ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652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ОРБ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6240" y="1235160"/>
            <a:ext cx="88120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ти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canalis opticu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кроз који у орбиту улази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n. opticus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 и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a. ophtalmica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fissurae orbitalis superior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с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ратемпорал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с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теригопалати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зал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ossa sacci lacrimali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уд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ductus lacrima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в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нак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, o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пр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ва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о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ч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пљ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максилар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з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тмоидал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ћел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држа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ч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пљ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ч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буч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шић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с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в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дов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з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пту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нонов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псу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ериорби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значавам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ериост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ове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Nd9GcR1dbllulQkZnL7KNjkjDW_C4OYp_noywR4FGEigYKZWS8cerXP-6CGmQ"/>
          <p:cNvPicPr/>
          <p:nvPr/>
        </p:nvPicPr>
        <p:blipFill>
          <a:blip r:embed="rId2"/>
          <a:stretch/>
        </p:blipFill>
        <p:spPr>
          <a:xfrm>
            <a:off x="684360" y="228600"/>
            <a:ext cx="1523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БОЉЕЊ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57120" y="1844640"/>
            <a:ext cx="74278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КУТ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З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РОНИЧН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З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ИСТ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УМОР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КСИЛАРНИХ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1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2920" y="1341360"/>
            <a:ext cx="8786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овилич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дор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онтог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ловље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зликујем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иног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онтог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л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зит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иног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р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чи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рус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н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ректн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дир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мар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хваћ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в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имф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д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ширит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онтог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л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це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мар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игра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веоларног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еб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рж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завис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витализира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бок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т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џеп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л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ч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циркумскриптн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ок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шир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даљ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рж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м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ок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ЕНТОГЕН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ИНУЗИТ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9440" y="1142640"/>
            <a:ext cx="89632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2720" indent="-1627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онтоге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ред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е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рочитп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гађ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25198"/>
                </a:solidFill>
                <a:latin typeface="Arial"/>
              </a:rPr>
              <a:t>paradontitis apicalis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о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шт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р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крив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ош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м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о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лик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фори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ки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већ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р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еж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оантралних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фора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понт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ра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е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агулу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лвео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лвео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з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;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ног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еш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в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ронич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 нег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кут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тиологи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н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зир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ба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р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р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ру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струмен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нал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р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апик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њ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сорбу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периостеал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ансосе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е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и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ЗРОЧНИЦ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НУЗИТ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13840" y="15001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аз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утев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ск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це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орњовилич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ма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азн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ојев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актери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иноге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актер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ирус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осној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упљи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к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зити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ад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узроковачим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ставља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флор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с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упљи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чињениц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могућа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стојањ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но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ксиларн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м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звршит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иференцијац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ипа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иноген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зити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АКСИЛАР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НУЗ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7640" y="1195200"/>
            <a:ext cx="8785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акут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осто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зражен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болов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праорбитално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лепоочном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горњој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вилиц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дружен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боловим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аћен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високом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температуро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тегоб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натн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ојачавај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колик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метњ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тицањ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крет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(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мпије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Болов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зражениј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телесни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апорим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агињањ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глав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ацијент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зјављу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м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бјективн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сећај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ек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течан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адржај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рећ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бјективн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вид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ив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бла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о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анин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браз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болел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инус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сетљив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тисак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уб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ст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сетљив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еркусиј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црвенил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лузниц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"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пструкцијо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осн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ходник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хваћен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"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гнојно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крецијо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редње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осном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ходник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акупљање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гној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од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арактеристичн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гнојн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ИЈАГНОЗ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З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20480" y="1557360"/>
            <a:ext cx="8265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ијагноз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кут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зити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стављам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снов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линичк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гле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ндге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нимк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аназал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упљи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бјектив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лазим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нојн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крец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редње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осн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одник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ноје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д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руг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окал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пшт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мптом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ећ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писа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ндге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нимак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аназал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упљи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казу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ифуз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сенч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читав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" y="-20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ЕРАПИЈ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З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53520" y="1412640"/>
            <a:ext cx="84661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ст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ме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нтибиоти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нтибиогра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ављањ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о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п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азоконстриктор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јств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федри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– 2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%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могући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рена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ив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држа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род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в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рочни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панира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кстрахира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пречавам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ко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кстра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оназал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ерфора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могућа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ренаж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нојав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кре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кстракцион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н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мирива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к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лас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ронич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исту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снији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ам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ечењ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д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руршк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тварањ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истул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визиј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аксилар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нуз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848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ронич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кут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четк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ма хронича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ок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ронич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пикал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одонтити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роничн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вред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ем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екстрак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ЛИНИЧК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МПТОМ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З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39840" y="1267920"/>
            <a:ext cx="84643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јектив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гоб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знат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мперату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иш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са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о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олел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ра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зличит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епен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ежа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тоја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мет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у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ри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л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п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л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ећа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тис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дре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ној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рм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вљ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е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коли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ре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лик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кстракциј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вљ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исту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с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н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вађе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рем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нојав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држа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ђ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еж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рена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ив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држа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исту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род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в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 долази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гзацерба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тавља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јагно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ронич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аназал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упљи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ндг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гр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чајн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лог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З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ронич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рекл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хтев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в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с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стра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в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већ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о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чаје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опход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дикал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пера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дебља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липоз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мењ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р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стран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ар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упљи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пој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њ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ос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одник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коли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оантрал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исту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ператив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т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твор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ч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дикал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пера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лдвел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ик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(Caldwell-Luc) </a:t>
            </a:r>
            <a:r>
              <a:rPr b="0" i="1" lang="sr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товрем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твара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оантрал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ист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ОРБ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ANd9GcR1dbllulQkZnL7KNjkjDW_C4OYp_noywR4FGEigYKZWS8cerXP-6CGmQ"/>
          <p:cNvPicPr/>
          <p:nvPr/>
        </p:nvPicPr>
        <p:blipFill>
          <a:blip r:embed="rId2"/>
          <a:stretch/>
        </p:blipFill>
        <p:spPr>
          <a:xfrm>
            <a:off x="685800" y="228600"/>
            <a:ext cx="101916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ccs-120-0-19733400-1295975641"/>
          <p:cNvPicPr/>
          <p:nvPr/>
        </p:nvPicPr>
        <p:blipFill>
          <a:blip r:embed="rId3"/>
          <a:stretch/>
        </p:blipFill>
        <p:spPr>
          <a:xfrm>
            <a:off x="684360" y="981000"/>
            <a:ext cx="759780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288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ЦИСТ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ЕНТОГ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УКОК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mucous-retention-cyst1"/>
          <p:cNvPicPr/>
          <p:nvPr/>
        </p:nvPicPr>
        <p:blipFill>
          <a:blip r:embed="rId3"/>
          <a:stretch/>
        </p:blipFill>
        <p:spPr>
          <a:xfrm>
            <a:off x="457200" y="2617920"/>
            <a:ext cx="840096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ЕНТОГЕНЕ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ЦИ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6800" y="1197000"/>
            <a:ext cx="77659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ге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цист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оји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сто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г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зорит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л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е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рникс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ћ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звој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ог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зити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јагноз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нов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линичког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глед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ТГ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јагностик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рурш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JClinImagingSci_2011_1_1_54_90074_u2"/>
          <p:cNvPicPr/>
          <p:nvPr/>
        </p:nvPicPr>
        <p:blipFill>
          <a:blip r:embed="rId2"/>
          <a:stretch/>
        </p:blipFill>
        <p:spPr>
          <a:xfrm>
            <a:off x="985680" y="3500280"/>
            <a:ext cx="725832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Мукокеле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840" y="1052280"/>
            <a:ext cx="91281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укок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тохистолош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ениг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истич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м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назал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пуњ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укоз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држај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ст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ш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тис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о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шт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идо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а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е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3%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чаје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ксиларни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тиолог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укоке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зн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ијед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ногоброј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ор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у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тпу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јашњ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но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их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тпостав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струк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вод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на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жан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рена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ст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кре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о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во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тиолош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акто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ронич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иносинузитис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тео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литериш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во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на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атомск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омал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тиомеатал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мплек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тхо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ера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руги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в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укоке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о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п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ај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колик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ди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мптоматолог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падљ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ђ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мплика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ву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кундар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рапиј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рур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mucous-retention-pseudocyst-left-arrows-copy"/>
          <p:cNvPicPr/>
          <p:nvPr/>
        </p:nvPicPr>
        <p:blipFill>
          <a:blip r:embed="rId2"/>
          <a:stretch/>
        </p:blipFill>
        <p:spPr>
          <a:xfrm>
            <a:off x="5302080" y="5175360"/>
            <a:ext cx="38419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УМОР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39800" y="162864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мо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к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тск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удија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1%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лоћуд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м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3%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лоћуд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м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ла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ениг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пило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дено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тео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ондро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лиг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ланоцелуларн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рцини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денокарци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денои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цистич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рци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укепидермоид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рци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рко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рат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имфо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т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80%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м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рци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лочаст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ћел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ланоцелулар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рци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squamous cell carcinoma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0" descr="AnnMaxillofacSurg_2012_2_1_86_95333_f2"/>
          <p:cNvPicPr/>
          <p:nvPr/>
        </p:nvPicPr>
        <p:blipFill>
          <a:blip r:embed="rId2"/>
          <a:stretch/>
        </p:blipFill>
        <p:spPr>
          <a:xfrm>
            <a:off x="900000" y="3089160"/>
            <a:ext cx="7470720" cy="3343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2" descr="1048885-1077440-1875"/>
          <p:cNvPicPr/>
          <p:nvPr/>
        </p:nvPicPr>
        <p:blipFill>
          <a:blip r:embed="rId3"/>
          <a:stretch/>
        </p:blipFill>
        <p:spPr>
          <a:xfrm>
            <a:off x="905040" y="404640"/>
            <a:ext cx="3873240" cy="2632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JOralMaxillofacPathol_2012_16_1_137_92993_f4"/>
          <p:cNvPicPr/>
          <p:nvPr/>
        </p:nvPicPr>
        <p:blipFill>
          <a:blip r:embed="rId4"/>
          <a:stretch/>
        </p:blipFill>
        <p:spPr>
          <a:xfrm>
            <a:off x="4859280" y="404640"/>
            <a:ext cx="35146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ЛИНИЧК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ЛИК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УМОР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4920" y="1154160"/>
            <a:ext cx="813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08800" indent="-20880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Тумор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в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региј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ретко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ткривај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ранијим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фазам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болест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тад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манифестуј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еспецифичним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имптомим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попут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сећај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тежаног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осног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дисањ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осн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екрециј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800" indent="-20880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колико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в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трај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дуж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4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едељ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потребан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детаљан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пецијалистичк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преглед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дијагностичк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брад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800" indent="-20880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каснијим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фазам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болест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болесник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алармантниј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понављајућ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крварењ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епистакс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тицањ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бол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подручј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лиц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подручј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епц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емогућност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тварањ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неуролошк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спад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800" indent="-20880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лучај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тумор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к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могућ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двослике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мањен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покретљивост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к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одређеним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25198"/>
                </a:solidFill>
                <a:latin typeface="Arial"/>
              </a:rPr>
              <a:t>смеровима</a:t>
            </a:r>
            <a:r>
              <a:rPr b="0" lang="en-US" sz="22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УМОР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АКС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200" indent="-3762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скључив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ирурш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вис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ст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ум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Екстирпациј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енигних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ум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секциј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лигних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ум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ција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ота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лучај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умор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егзентерациј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рб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датн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рапиј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висност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ст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ум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ра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лихеми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4000" spc="-1" strike="noStrike">
                <a:solidFill>
                  <a:srgbClr val="ffffff"/>
                </a:solidFill>
                <a:latin typeface="Arial"/>
              </a:rPr>
              <a:t>FOSSA TEMPORA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04180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Fossa temporalis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ва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епооч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ов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стављај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већ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л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теригоид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вц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tuber maxillae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issurae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pterygomaxillari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теригопалатинск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м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issurae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orbitalis inferior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мпорал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потпу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држ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plexus pterygoideu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a. maxillari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а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говарају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ћ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р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300px-Temporal_fossa"/>
          <p:cNvPicPr/>
          <p:nvPr/>
        </p:nvPicPr>
        <p:blipFill>
          <a:blip r:embed="rId2"/>
          <a:stretch/>
        </p:blipFill>
        <p:spPr>
          <a:xfrm>
            <a:off x="5219640" y="2230560"/>
            <a:ext cx="37846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БУКАЛН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ОС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шић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ра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masseter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псу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зив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с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стуч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ишат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Bichat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се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fossae infratemporalis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ра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рник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држ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ногоброј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љувач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пи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ливар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укал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говарајућ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в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дов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. et v. facialis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masticator1316297441865"/>
          <p:cNvPicPr/>
          <p:nvPr/>
        </p:nvPicPr>
        <p:blipFill>
          <a:blip r:embed="rId2"/>
          <a:stretch/>
        </p:blipFill>
        <p:spPr>
          <a:xfrm>
            <a:off x="4859280" y="1268280"/>
            <a:ext cx="40575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84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БУКАЛН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РОС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85880" y="164304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браз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ир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гл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са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m. masster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аз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ндибул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ускулату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ставље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тежн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m. buccinator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укал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пре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дњ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вицом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m. buccinator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њ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вицом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m. masster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m. pterygoideus medialis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9370600" y="-351801000"/>
            <a:ext cx="1201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edju miš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-82242000" y="-351801000"/>
            <a:ext cx="2070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obraza i prednje iv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-68975280" y="-351801000"/>
            <a:ext cx="1236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masseter-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-61311240" y="-351801000"/>
            <a:ext cx="840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azi 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-111431520" y="-174255120"/>
            <a:ext cx="3093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apsuli vezivnog tkiva masno jastu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-84523320" y="-174255120"/>
            <a:ext cx="4047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(Bišat, Bichat) koje prema nazad doseže do fo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-111440880" y="3291120"/>
            <a:ext cx="7218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temporalis. Sluzokoža obraza ide ka forniksu gornje i donje vilice. Sadrži mnogobroj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-111426480" y="180837000"/>
            <a:ext cx="743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juv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-101329920" y="180837000"/>
            <a:ext cx="4903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žlezde i papilu salivaris bukalis. Tu se nalaze odgovaraju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-69405120" y="180837000"/>
            <a:ext cx="2045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rvni sudovi arterija 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-111426480" y="358359840"/>
            <a:ext cx="123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a facijali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436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4000" spc="-1" strike="noStrike">
                <a:solidFill>
                  <a:srgbClr val="ffffff"/>
                </a:solidFill>
                <a:latin typeface="Arial"/>
              </a:rPr>
              <a:t>FOSSA CAN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4320" y="1699920"/>
            <a:ext cx="4959360" cy="35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9920" indent="-1699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дњ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fossae canina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ра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у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атер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укал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диј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ос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ишићим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orbicularis oris,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levator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labii oris superior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вицо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buccin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834279-835401-129"/>
          <p:cNvPicPr/>
          <p:nvPr/>
        </p:nvPicPr>
        <p:blipFill>
          <a:blip r:embed="rId2"/>
          <a:srcRect l="0" t="7566" r="0" b="11341"/>
          <a:stretch/>
        </p:blipFill>
        <p:spPr>
          <a:xfrm>
            <a:off x="4643280" y="1557360"/>
            <a:ext cx="41054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АРОТИДНА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ЛОЖ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9880" y="1195560"/>
            <a:ext cx="50403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ossa retromandibulari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аниј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илоид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јафраг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пред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ramu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andibulae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masseter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m. pterygoides mediali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раниц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пољ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ш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нал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стављ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тид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сциј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потпу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тидн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ж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ва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афарингеал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Fossa retromandibularis 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т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пуњ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glandulom parotis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F66124-008-f056a%20-%20small"/>
          <p:cNvPicPr/>
          <p:nvPr/>
        </p:nvPicPr>
        <p:blipFill>
          <a:blip r:embed="rId2"/>
          <a:stretch/>
        </p:blipFill>
        <p:spPr>
          <a:xfrm>
            <a:off x="4978440" y="1413000"/>
            <a:ext cx="41655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1T23:44:46Z</dcterms:modified>
  <cp:revision>738</cp:revision>
  <dc:subject/>
  <dc:title>Diapositiva 1</dc:title>
</cp:coreProperties>
</file>